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3.jpeg" ContentType="image/jpeg"/>
  <Override PartName="/ppt/media/image45.png" ContentType="image/png"/>
  <Override PartName="/ppt/media/image35.jpeg" ContentType="image/jpeg"/>
  <Override PartName="/ppt/media/image10.png" ContentType="image/png"/>
  <Override PartName="/ppt/media/image27.jpeg" ContentType="image/jpe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44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4.png" ContentType="image/png"/>
  <Override PartName="/ppt/media/image34.jpeg" ContentType="image/jpeg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75D1-30C0-446A-8196-3F05348D68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86AF-C56F-422F-9B11-8AD6C191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64BA-77F9-43F9-AB6A-F9B7A9211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14F0-E63F-458E-87C0-14048576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9D4-CC54-4411-B3DC-3D6CC806A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A34A-2B9E-487A-AA67-5D503569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70090-9481-41B9-A11B-29D43EE3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C4A4-8556-4274-99F6-326B8B07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94A-B42C-4C6A-992B-B0BEA2855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0E04-C29A-4A38-A90D-962DC09DDF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43B0-3F63-4D48-967A-645B0E8D5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44EE-F223-4399-96DF-A96181850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148F1-468D-439D-9DDF-8CBC9DD24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5C4E-342D-4F02-A4A6-6359DE090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1B6C-F047-46FA-908A-44092635C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9FCD-5BEE-4439-A7A8-5D87FEA0D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CC01-9BC5-4BAC-9A04-2B91F3C34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D62E-D6BF-4C44-8695-D0FD0169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DEC3-E240-4629-8E17-1F694E62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2982-6A2D-487C-A13F-E4BDF5664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5F7A-49E9-4AFC-A9A2-4F95D363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24B8-E862-46E8-A5C4-CA3A9C686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533F-81BA-4463-BE7E-16743D6F0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6AE-B4AD-4B38-B460-75855368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2488-F01F-4B64-9A6F-24EFD89F1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F0DF-D920-4F43-B6B5-ADCEAC7A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2037-5E13-40B4-81B5-849EB2D7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988A-1B87-4107-A751-21D4201D1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268-04B0-4286-BE5D-DB7537F6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5E4E-CF9B-4677-AB1D-CD94088F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830A-F7CE-44BE-B0E6-2329FE2D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FDCA-67A9-462A-ABB3-F2AA8764A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75D-76A9-4640-832E-91DBCFA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80E-5593-4106-B04A-C5407808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AA1-27F8-4693-B440-7AF849D13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F372-C395-4F08-9C45-33CE2ECC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0C85-9A13-4C4F-9F9E-0F48E5C5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AAB0-6137-4194-B70D-7F930819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10C-B108-4560-AD3F-8192D909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B7CD-4301-4B79-AF26-92533797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818F-DF7D-410D-B4B5-595913EC5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powerpoint 8"/>
          <p:cNvPicPr/>
          <p:nvPr/>
        </p:nvPicPr>
        <p:blipFill>
          <a:blip r:embed="rId1"/>
          <a:stretch/>
        </p:blipFill>
        <p:spPr>
          <a:xfrm>
            <a:off x="2448000" y="333360"/>
            <a:ext cx="4248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owerpoint 10"/>
          <p:cNvPicPr/>
          <p:nvPr/>
        </p:nvPicPr>
        <p:blipFill>
          <a:blip r:embed="rId1"/>
          <a:stretch/>
        </p:blipFill>
        <p:spPr>
          <a:xfrm>
            <a:off x="276120" y="-95400"/>
            <a:ext cx="8591760" cy="704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powerpoint 11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powerpoint 12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powerpoint 13"/>
          <p:cNvPicPr/>
          <p:nvPr/>
        </p:nvPicPr>
        <p:blipFill>
          <a:blip r:embed="rId1"/>
          <a:stretch/>
        </p:blipFill>
        <p:spPr>
          <a:xfrm>
            <a:off x="1452600" y="314280"/>
            <a:ext cx="62388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point 14"/>
          <p:cNvPicPr/>
          <p:nvPr/>
        </p:nvPicPr>
        <p:blipFill>
          <a:blip r:embed="rId1"/>
          <a:stretch/>
        </p:blipFill>
        <p:spPr>
          <a:xfrm>
            <a:off x="700200" y="1252440"/>
            <a:ext cx="774360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powerpoint 15"/>
          <p:cNvPicPr/>
          <p:nvPr/>
        </p:nvPicPr>
        <p:blipFill>
          <a:blip r:embed="rId1"/>
          <a:stretch/>
        </p:blipFill>
        <p:spPr>
          <a:xfrm>
            <a:off x="1533600" y="1747800"/>
            <a:ext cx="607680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_40153810_district2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_40153814_district24_map203"/>
          <p:cNvPicPr/>
          <p:nvPr/>
        </p:nvPicPr>
        <p:blipFill>
          <a:blip r:embed="rId1"/>
          <a:stretch/>
        </p:blipFill>
        <p:spPr>
          <a:xfrm>
            <a:off x="3605040" y="1838160"/>
            <a:ext cx="1933920" cy="31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powerpoint 16"/>
          <p:cNvPicPr/>
          <p:nvPr/>
        </p:nvPicPr>
        <p:blipFill>
          <a:blip r:embed="rId1"/>
          <a:stretch/>
        </p:blipFill>
        <p:spPr>
          <a:xfrm>
            <a:off x="1866960" y="1395360"/>
            <a:ext cx="5410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powerpoint2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powerpoint 18"/>
          <p:cNvPicPr/>
          <p:nvPr/>
        </p:nvPicPr>
        <p:blipFill>
          <a:blip r:embed="rId1"/>
          <a:stretch/>
        </p:blipFill>
        <p:spPr>
          <a:xfrm>
            <a:off x="1938240" y="1347840"/>
            <a:ext cx="5267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powerpoint dakota"/>
          <p:cNvPicPr/>
          <p:nvPr/>
        </p:nvPicPr>
        <p:blipFill>
          <a:blip r:embed="rId1"/>
          <a:stretch/>
        </p:blipFill>
        <p:spPr>
          <a:xfrm>
            <a:off x="2457360" y="762120"/>
            <a:ext cx="42292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powerpoint 17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powerpoint 17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powerpoint 17"/>
          <p:cNvPicPr/>
          <p:nvPr/>
        </p:nvPicPr>
        <p:blipFill>
          <a:blip r:embed="rId3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Solid South 80-60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powerpoint 45"/>
          <p:cNvPicPr/>
          <p:nvPr/>
        </p:nvPicPr>
        <p:blipFill>
          <a:blip r:embed="rId2"/>
          <a:stretch/>
        </p:blipFill>
        <p:spPr>
          <a:xfrm>
            <a:off x="1876320" y="262080"/>
            <a:ext cx="5391360" cy="63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Solid South 64-04"/>
          <p:cNvPicPr/>
          <p:nvPr/>
        </p:nvPicPr>
        <p:blipFill>
          <a:blip r:embed="rId1"/>
          <a:stretch/>
        </p:blipFill>
        <p:spPr>
          <a:xfrm>
            <a:off x="1871640" y="1981080"/>
            <a:ext cx="5400720" cy="2895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powerpoint 46"/>
          <p:cNvPicPr/>
          <p:nvPr/>
        </p:nvPicPr>
        <p:blipFill>
          <a:blip r:embed="rId2"/>
          <a:stretch/>
        </p:blipFill>
        <p:spPr>
          <a:xfrm>
            <a:off x="1947960" y="1647720"/>
            <a:ext cx="524808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powerpoint 19"/>
          <p:cNvPicPr/>
          <p:nvPr/>
        </p:nvPicPr>
        <p:blipFill>
          <a:blip r:embed="rId1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powerpoint 19"/>
          <p:cNvPicPr/>
          <p:nvPr/>
        </p:nvPicPr>
        <p:blipFill>
          <a:blip r:embed="rId2"/>
          <a:stretch/>
        </p:blipFill>
        <p:spPr>
          <a:xfrm>
            <a:off x="1195560" y="1309680"/>
            <a:ext cx="675288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0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" descr="D:\Anglo seminari 2012\5 i 4-5\Predsjednički izbori\Sl.1. Pobjednički kandidati po saveznim državama na američkim predsjedničkim izborima 2000. godine.jpg"/>
          <p:cNvPicPr/>
          <p:nvPr/>
        </p:nvPicPr>
        <p:blipFill>
          <a:blip r:embed="rId2"/>
          <a:stretch/>
        </p:blipFill>
        <p:spPr>
          <a:xfrm>
            <a:off x="826920" y="1773360"/>
            <a:ext cx="759636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4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Anglo seminari 2012\5 i 4-5\Predsjednički izbori\Sl.2. Pobjednički kandidati po saveznim državama na američkim predsjedničkim izborima 2004. godine.jpg"/>
          <p:cNvPicPr/>
          <p:nvPr/>
        </p:nvPicPr>
        <p:blipFill>
          <a:blip r:embed="rId2"/>
          <a:stretch/>
        </p:blipFill>
        <p:spPr>
          <a:xfrm>
            <a:off x="900000" y="1881360"/>
            <a:ext cx="766764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08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2"/>
          <a:stretch/>
        </p:blipFill>
        <p:spPr>
          <a:xfrm>
            <a:off x="108000" y="1963800"/>
            <a:ext cx="7523280" cy="3760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D:\Anglo seminari 2012\5 i 4-5\Predsjednički izbori\Sl.3. Pobjednički kandidati po saveznim državama na američkim predsjedničkim izborima 2008. godine.jpg"/>
          <p:cNvPicPr/>
          <p:nvPr/>
        </p:nvPicPr>
        <p:blipFill>
          <a:blip r:embed="rId3"/>
          <a:stretch/>
        </p:blipFill>
        <p:spPr>
          <a:xfrm>
            <a:off x="539640" y="1819440"/>
            <a:ext cx="809964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bjednički kandidati po saveznim državama na predsjedničkim izborima 2012. 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D:\Anglo seminari 2012\5 i 4-5\Predsjednički izbori\Sl.4. Pobjednički kandidati po saveznim državama na američkim predsjedničkim izborima 2012. godine.jpg"/>
          <p:cNvPicPr/>
          <p:nvPr/>
        </p:nvPicPr>
        <p:blipFill>
          <a:blip r:embed="rId2"/>
          <a:stretch/>
        </p:blipFill>
        <p:spPr>
          <a:xfrm>
            <a:off x="539640" y="1628640"/>
            <a:ext cx="86043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powerpoint 2"/>
          <p:cNvPicPr/>
          <p:nvPr/>
        </p:nvPicPr>
        <p:blipFill>
          <a:blip r:embed="rId1"/>
          <a:stretch/>
        </p:blipFill>
        <p:spPr>
          <a:xfrm>
            <a:off x="2057400" y="1724040"/>
            <a:ext cx="50292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powerpoint 44"/>
          <p:cNvPicPr/>
          <p:nvPr/>
        </p:nvPicPr>
        <p:blipFill>
          <a:blip r:embed="rId1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powerpoint 44"/>
          <p:cNvPicPr/>
          <p:nvPr/>
        </p:nvPicPr>
        <p:blipFill>
          <a:blip r:embed="rId2"/>
          <a:stretch/>
        </p:blipFill>
        <p:spPr>
          <a:xfrm>
            <a:off x="804960" y="685800"/>
            <a:ext cx="7534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e bojišnice na izborima 2012. - progno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zervirano mjesto sadržaja 3" descr="swing prognoza.bmp"/>
          <p:cNvPicPr/>
          <p:nvPr/>
        </p:nvPicPr>
        <p:blipFill>
          <a:blip r:embed="rId1"/>
          <a:stretch/>
        </p:blipFill>
        <p:spPr>
          <a:xfrm>
            <a:off x="808200" y="1600200"/>
            <a:ext cx="752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e bojišnice na izborima 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s://upload.wikimedia.org/wikipedia/commons/e/e1/Swing-2016.png"/>
          <p:cNvPicPr/>
          <p:nvPr/>
        </p:nvPicPr>
        <p:blipFill>
          <a:blip r:embed="rId1"/>
          <a:stretch/>
        </p:blipFill>
        <p:spPr>
          <a:xfrm>
            <a:off x="851040" y="1697040"/>
            <a:ext cx="744192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powerpoint 21"/>
          <p:cNvPicPr/>
          <p:nvPr/>
        </p:nvPicPr>
        <p:blipFill>
          <a:blip r:embed="rId1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powerpoint 21"/>
          <p:cNvPicPr/>
          <p:nvPr/>
        </p:nvPicPr>
        <p:blipFill>
          <a:blip r:embed="rId2"/>
          <a:stretch/>
        </p:blipFill>
        <p:spPr>
          <a:xfrm>
            <a:off x="1562040" y="1214280"/>
            <a:ext cx="6019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powerpoint 22"/>
          <p:cNvPicPr/>
          <p:nvPr/>
        </p:nvPicPr>
        <p:blipFill>
          <a:blip r:embed="rId1"/>
          <a:stretch/>
        </p:blipFill>
        <p:spPr>
          <a:xfrm>
            <a:off x="1376280" y="1114560"/>
            <a:ext cx="639144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bijel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Rezervirano mjesto sadržaja 3" descr="bijel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ferencije crnaca (veljača-studeni 2012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Rezervirano mjesto sadržaja 3" descr="crni nehispano.bmp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powerpoint 36"/>
          <p:cNvPicPr/>
          <p:nvPr/>
        </p:nvPicPr>
        <p:blipFill>
          <a:blip r:embed="rId1"/>
          <a:stretch/>
        </p:blipFill>
        <p:spPr>
          <a:xfrm>
            <a:off x="371520" y="1585800"/>
            <a:ext cx="84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powerpoint 38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mal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powerpoint 3"/>
          <p:cNvPicPr/>
          <p:nvPr/>
        </p:nvPicPr>
        <p:blipFill>
          <a:blip r:embed="rId1"/>
          <a:stretch/>
        </p:blipFill>
        <p:spPr>
          <a:xfrm>
            <a:off x="1862280" y="1662120"/>
            <a:ext cx="54194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Glasovi na izborima 2016. prema dobi i rasi (plavo Clinton, crveno Tru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233360" y="1552680"/>
          <a:ext cx="4006800" cy="4620960"/>
        </p:xfrm>
        <a:graphic>
          <a:graphicData uri="http://schemas.openxmlformats.org/drawingml/2006/table">
            <a:tbl>
              <a:tblPr/>
              <a:tblGrid>
                <a:gridCol w="1335240"/>
                <a:gridCol w="1336680"/>
                <a:gridCol w="1334880"/>
              </a:tblGrid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18-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30-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312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45-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0f0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b6b6"/>
                    </a:solidFill>
                  </a:tcPr>
                </a:tc>
              </a:tr>
              <a:tr h="53100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5313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no 65 and old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  <a:tr h="302760">
                <a:tc>
                  <a:txBody>
                    <a:bodyPr lIns="74160" rIns="74160" tIns="37080" bIns="370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Other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noFill/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b0ceff"/>
                    </a:solidFill>
                  </a:tcPr>
                </a:tc>
                <a:tc>
                  <a:txBody>
                    <a:bodyPr lIns="74160" rIns="74160" tIns="37080" bIns="3708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4160" marR="74160">
                    <a:lnL w="4320">
                      <a:solidFill>
                        <a:srgbClr val="a2a9b1"/>
                      </a:solidFill>
                    </a:lnL>
                    <a:lnR w="4320">
                      <a:solidFill>
                        <a:srgbClr val="a2a9b1"/>
                      </a:solidFill>
                    </a:lnR>
                    <a:lnT w="4320">
                      <a:solidFill>
                        <a:srgbClr val="a2a9b1"/>
                      </a:solidFill>
                    </a:lnT>
                    <a:lnB w="4320">
                      <a:solidFill>
                        <a:srgbClr val="a2a9b1"/>
                      </a:solidFill>
                    </a:lnB>
                    <a:solidFill>
                      <a:srgbClr val="fff3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powerpoint 43"/>
          <p:cNvPicPr/>
          <p:nvPr/>
        </p:nvPicPr>
        <p:blipFill>
          <a:blip r:embed="rId1"/>
          <a:stretch/>
        </p:blipFill>
        <p:spPr>
          <a:xfrm>
            <a:off x="2281320" y="866880"/>
            <a:ext cx="4581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Povezana slika"/>
          <p:cNvPicPr/>
          <p:nvPr/>
        </p:nvPicPr>
        <p:blipFill>
          <a:blip r:embed="rId1"/>
          <a:stretch/>
        </p:blipFill>
        <p:spPr>
          <a:xfrm>
            <a:off x="762120" y="1814400"/>
            <a:ext cx="761976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Čuvanje interesa velikih drž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powerpoint 4"/>
          <p:cNvPicPr/>
          <p:nvPr/>
        </p:nvPicPr>
        <p:blipFill>
          <a:blip r:embed="rId1"/>
          <a:stretch/>
        </p:blipFill>
        <p:spPr>
          <a:xfrm>
            <a:off x="2219400" y="1467000"/>
            <a:ext cx="47052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ko pobjednik narodnog glasanja može dobiti većinu glasova elek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https://upload.wikimedia.org/wikipedia/commons/5/51/PopWinnerLosesElecVote.png"/>
          <p:cNvPicPr/>
          <p:nvPr/>
        </p:nvPicPr>
        <p:blipFill>
          <a:blip r:embed="rId1"/>
          <a:stretch/>
        </p:blipFill>
        <p:spPr>
          <a:xfrm>
            <a:off x="2895480" y="2224080"/>
            <a:ext cx="335304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Broj narodnih glasova na izborim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s://upload.wikimedia.org/wikipedia/commons/thumb/7/7d/United_States_presidential_election%2C_2016_Cartogram.png/498px-United_States_presidential_election%2C_2016_Cartogram.png"/>
          <p:cNvPicPr/>
          <p:nvPr/>
        </p:nvPicPr>
        <p:blipFill>
          <a:blip r:embed="rId1"/>
          <a:stretch/>
        </p:blipFill>
        <p:spPr>
          <a:xfrm>
            <a:off x="1409760" y="1959120"/>
            <a:ext cx="6324480" cy="38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Rezultati izbora 201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s://upload.wikimedia.org/wikipedia/commons/thumb/e/ec/ElectoralCollege2016.svg/1020px-ElectoralCollege2016.svg.png"/>
          <p:cNvPicPr/>
          <p:nvPr/>
        </p:nvPicPr>
        <p:blipFill>
          <a:blip r:embed="rId1"/>
          <a:stretch/>
        </p:blipFill>
        <p:spPr>
          <a:xfrm>
            <a:off x="679320" y="1600200"/>
            <a:ext cx="778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T051485A"/>
          <p:cNvPicPr/>
          <p:nvPr/>
        </p:nvPicPr>
        <p:blipFill>
          <a:blip r:embed="rId1"/>
          <a:stretch/>
        </p:blipFill>
        <p:spPr>
          <a:xfrm>
            <a:off x="2666880" y="1270080"/>
            <a:ext cx="3810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4T14:44:34Z</dcterms:created>
  <dc:creator>Your User Name</dc:creator>
  <dc:description/>
  <dc:language>en-US</dc:language>
  <cp:lastModifiedBy>Laura Šakaja</cp:lastModifiedBy>
  <dcterms:modified xsi:type="dcterms:W3CDTF">2018-12-04T09:54:11Z</dcterms:modified>
  <cp:revision>43</cp:revision>
  <dc:subject/>
  <dc:title>Slide 1</dc:title>
</cp:coreProperties>
</file>